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934-68CF-4252-8057-C95276EF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3B9-7581-4E9A-A53F-468626C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1FF-57A7-4835-8356-5F9F01B9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7EF-2F20-461D-847A-86ACC2C9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69D-E30F-4B87-8FD7-180163A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FB0-1C41-4090-9340-0C2B084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21F-F6CE-4B28-B66F-E56B1C8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060-76CD-4849-BDBC-1DAE142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B8A-575E-453C-BEE4-C4F8E48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538-5A2B-4B0A-857C-3E10EC9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543-2CC2-45ED-9B1A-DB1312C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520-23D2-41DC-8CD3-40572AF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046E-05A1-444A-BF54-7D9AD621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 Compiled by D. Brian We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francis2"/>
          <p:cNvPicPr/>
          <p:nvPr/>
        </p:nvPicPr>
        <p:blipFill>
          <a:blip r:embed="rId1"/>
          <a:stretch/>
        </p:blipFill>
        <p:spPr>
          <a:xfrm>
            <a:off x="1600200" y="146160"/>
            <a:ext cx="5867280" cy="56084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43" name="WordArt 4"/>
          <p:cNvSpPr txBox="1"/>
          <p:nvPr/>
        </p:nvSpPr>
        <p:spPr>
          <a:xfrm>
            <a:off x="380880" y="5854680"/>
            <a:ext cx="8318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Star Spangled Banne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463840" y="6477120"/>
            <a:ext cx="41749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y Francis Scott Key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  What did the author originally write the lyrics 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back side of a le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  What does it mean to fly the flag at half-ma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A state official has died (Senator, President, Membe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Congress, etc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Also flown half-mast on Memorial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  What does it mean to fly the flag upside-dow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Help!  I’m in trouble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 What do the 13 stripes and 13 stars stand for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iginal fla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13 original colon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a. Where is the only American flag that is not on planet Eart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b. Who placed it there and on what d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Neil Armstrong – July 20, 196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.  What are some nicknames for our fla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bbe0e3"/>
                </a:solidFill>
                <a:latin typeface="Arial"/>
              </a:rPr>
              <a:t>Old Glory” “Stars and Stripes” “The Red, White and Blu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380880" y="152280"/>
            <a:ext cx="8318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 Star Spangled Banne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743200" y="7621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d you know...?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5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awnsLight"/>
          <p:cNvPicPr/>
          <p:nvPr/>
        </p:nvPicPr>
        <p:blipFill>
          <a:blip r:embed="rId1"/>
          <a:srcRect l="6261" t="0" r="0" b="0"/>
          <a:stretch/>
        </p:blipFill>
        <p:spPr>
          <a:xfrm>
            <a:off x="0" y="17640"/>
            <a:ext cx="9144000" cy="6438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52280" y="541008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h, say can you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y the dawn's early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4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228600" y="2743200"/>
            <a:ext cx="3276720" cy="3445560"/>
            <a:chOff x="228600" y="2743200"/>
            <a:chExt cx="3276720" cy="3445560"/>
          </a:xfrm>
        </p:grpSpPr>
        <p:sp>
          <p:nvSpPr>
            <p:cNvPr id="50" name="Text Box 4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228600" y="2743200"/>
              <a:ext cx="3276720" cy="34455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hat s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proudly we hailed at the twilight's last gl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A001256"/>
          <p:cNvPicPr/>
          <p:nvPr/>
        </p:nvPicPr>
        <p:blipFill>
          <a:blip r:embed="rId1"/>
          <a:srcRect l="18367" t="2234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3048120" y="31680"/>
            <a:ext cx="5943600" cy="2104920"/>
            <a:chOff x="3048120" y="31680"/>
            <a:chExt cx="5943600" cy="2104920"/>
          </a:xfrm>
        </p:grpSpPr>
        <p:sp>
          <p:nvSpPr>
            <p:cNvPr id="56" name="Text Box 4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3048120" y="31680"/>
              <a:ext cx="5943600" cy="210492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Whose broad stripes a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bright stars throu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the perilous fight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ey_Flag"/>
          <p:cNvPicPr/>
          <p:nvPr/>
        </p:nvPicPr>
        <p:blipFill>
          <a:blip r:embed="rId1"/>
          <a:srcRect l="0" t="0" r="0" b="9897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"/>
          <p:cNvGrpSpPr/>
          <p:nvPr/>
        </p:nvGrpSpPr>
        <p:grpSpPr>
          <a:xfrm>
            <a:off x="152280" y="5349960"/>
            <a:ext cx="8839440" cy="1434600"/>
            <a:chOff x="152280" y="5349960"/>
            <a:chExt cx="8839440" cy="1434600"/>
          </a:xfrm>
        </p:grpSpPr>
        <p:sp>
          <p:nvSpPr>
            <p:cNvPr id="62" name="Text Box 4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152280" y="534996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'er the ramparts we watche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were so gallantly streaming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07378_f5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0" y="5425920"/>
            <a:ext cx="815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nd the rocket's red gla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e bombs bursting in ai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shadowmoon1_f"/>
          <p:cNvPicPr/>
          <p:nvPr/>
        </p:nvPicPr>
        <p:blipFill>
          <a:blip r:embed="rId1"/>
          <a:srcRect l="0" t="18184" r="0" b="0"/>
          <a:stretch/>
        </p:blipFill>
        <p:spPr>
          <a:xfrm>
            <a:off x="0" y="798480"/>
            <a:ext cx="7391520" cy="605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47520"/>
            <a:ext cx="883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ave proof through the 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at our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as st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alute_flag_alt"/>
          <p:cNvPicPr/>
          <p:nvPr/>
        </p:nvPicPr>
        <p:blipFill>
          <a:blip r:embed="rId1">
            <a:lum bright="20000"/>
          </a:blip>
          <a:srcRect l="0" t="0" r="11634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"/>
          <p:cNvGrpSpPr/>
          <p:nvPr/>
        </p:nvGrpSpPr>
        <p:grpSpPr>
          <a:xfrm>
            <a:off x="152280" y="5181480"/>
            <a:ext cx="8839440" cy="1434600"/>
            <a:chOff x="152280" y="5181480"/>
            <a:chExt cx="8839440" cy="1434600"/>
          </a:xfrm>
        </p:grpSpPr>
        <p:sp>
          <p:nvSpPr>
            <p:cNvPr id="73" name="Text Box 4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152280" y="5181480"/>
              <a:ext cx="883944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Oh, say does tha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Narrow"/>
                </a:rPr>
                <a:t>star-spangled banner yet wav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63_Th_235_american-flag"/>
          <p:cNvPicPr/>
          <p:nvPr/>
        </p:nvPicPr>
        <p:blipFill>
          <a:blip r:embed="rId1">
            <a:lum bright="20000"/>
          </a:blip>
          <a:srcRect l="4399" t="0" r="6667" b="0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152280" y="5257800"/>
            <a:ext cx="6248520" cy="1434600"/>
            <a:chOff x="152280" y="5257800"/>
            <a:chExt cx="6248520" cy="1434600"/>
          </a:xfrm>
        </p:grpSpPr>
        <p:sp>
          <p:nvSpPr>
            <p:cNvPr id="79" name="Text Box 4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135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152280" y="5257800"/>
              <a:ext cx="62485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Narrow"/>
                </a:rPr>
                <a:t>O'er the land of the free and the home of the brave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2:16:32Z</dcterms:created>
  <dc:creator>Brian Weese</dc:creator>
  <dc:description/>
  <dc:language>en-US</dc:language>
  <cp:lastModifiedBy>Leeann</cp:lastModifiedBy>
  <dcterms:modified xsi:type="dcterms:W3CDTF">2012-08-22T23:42:52Z</dcterms:modified>
  <cp:revision>27</cp:revision>
  <dc:subject/>
  <dc:title>Slide 1</dc:title>
</cp:coreProperties>
</file>